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6C2-EE3D-47D8-9F06-0B5F9A15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digest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lbict.co.uk/interactive/science/hear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E14-4394-42C1-9BBA-1121AA8A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0F2-6C75-4ED7-ADA2-40DD5D4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F87-A0D5-4A40-A757-09FF0BA5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4FB-F559-4615-B1C1-105C01AA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CC4-9DAB-4E19-92B8-8D477D4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864-27CD-42FF-B498-249E399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344-31E1-44E7-9C1D-FA4A2F4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24C-BE03-4E03-AB47-B916A545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375-5BE0-4810-9F73-4739C05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26E-E1CC-4517-8EB6-ACDA4826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FBD-A6B8-4F18-9E7D-BFD6515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AA8-27EE-4026-8782-169F41E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B7E5-C8AD-48C2-9AAC-6535C48D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&amp; Circulatory Syste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609480"/>
            <a:ext cx="3732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e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to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duode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kidshealth.org/kid/htbw/D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softschools.com/quizzes/science/digestive_system/quiz75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21040" y="609480"/>
            <a:ext cx="510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 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ulmonary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pulmonary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C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circulatory_system/quiz758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11:23Z</dcterms:created>
  <dc:creator>rubina khan</dc:creator>
  <dc:description/>
  <dc:language>en-US</dc:language>
  <cp:lastModifiedBy>rubina khan</cp:lastModifiedBy>
  <dcterms:modified xsi:type="dcterms:W3CDTF">2012-11-29T18:29:34Z</dcterms:modified>
  <cp:revision>11</cp:revision>
  <dc:subject/>
  <dc:title>Digestive &amp; Circulatory System Review</dc:title>
</cp:coreProperties>
</file>